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511E4-7716-4EE7-A790-869CF1D1F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03F0-8A7D-4D5C-A4E6-3ACE973A8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EDF75-9A64-4957-9F25-129ACBC9C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DC49F-571A-40A0-9347-949415E7E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E4F83-1CF4-47B6-B6A9-F8F0C2F14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6409D-3263-40D3-9D19-427CF2FD5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900A5-C4D2-4EDA-A3DF-C10A63D61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9AF7B-8FE5-4EAB-A3E8-37CB20D16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B7484-D7DC-43E5-9F17-91BEABB89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DCD26-41BE-442E-837B-FA914E3D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50C3B-792D-4543-9353-CF5026EEF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4B59-42C8-4B81-BD33-437D8120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0C38-544F-45A1-B66B-26A690144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267FF-1990-4703-8EC9-73355EA17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A2BD4-1493-426F-966E-278C8E230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42532-394C-471D-A87F-7B79F2E88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F61A0-71EE-4429-8828-147CB9126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B91058-481B-41DA-87D9-B83ACA8B50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1CC30-3A66-494A-870C-B5A763247A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3AD1D-D1B2-49E8-A041-AFED6C669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AD036-23FF-4455-B904-FE563B3EF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74793-8998-48D8-90C6-455F2F82A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FC9A4-47EE-4382-8FEF-269AB3E1A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614FC-7CDF-4A0C-A709-43F12F4DF1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B22B02-1A60-4C67-A904-15B3416BFD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76906-C03E-44E3-A53A-DDB8C036B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C5941-DB2D-40BE-BA6B-2D6DF7FE5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4246F-B0AB-45EC-87E8-AC8226FBE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5F0513-8E9B-465C-9183-214FE9FBE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336C76-952E-4D44-9BFB-3F427019B5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42EFCE-62F4-42A4-B634-0B90940AA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DCFE8-6056-4967-9C7C-6CF61CBF3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B9C55-AA21-4196-B75D-FDEA35ED98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05719-36D4-4C9C-8B31-53BB955F1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3AE31-CB8A-49A0-8BE3-EC36FD431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08C4E-B49D-4E42-96F1-696468FA7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3DC2D-ED47-4B38-88E4-0B2A24846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47D533-5024-48C3-88D8-8FF76E1AD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E449F-066C-4026-9FBB-E1E67F70E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BB43F-DB4C-4B2A-AB5E-7EF2D2892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5C5416-45D8-479B-A50E-1B369F445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A1DA46-A06E-4A74-9097-232EE2DCE5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7D15E-689B-42FE-A605-887955B891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CB2586-F601-4A0D-B909-E3F971AE4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7382-A1D0-4D66-86BC-C4C2938F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6A910-0D22-4CF2-87F8-5B0971971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05E652-A49B-4B0F-B23F-9FF4155DBA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132700-A358-465B-9898-A836254A8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C5C2D-B716-4706-9E4B-81927F1AD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34821-95A6-4D5A-B7FB-DEBF7848B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5D652-1F33-477D-8D52-623D8FBED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A72A5-8F3C-43BD-AE90-D0C1C6693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BB753-948C-47E2-B6AD-AD3D7817E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0DE9A-2888-4002-9E13-FE6B77E98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09543F-7DAB-49B7-9D55-AE9FF4683F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28A9-1C35-4BFF-BE31-49F3ED7B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41D19F-0799-4C67-AF34-ED929E73A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5060-D2D9-4928-92DD-017EDA13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77A7-355B-4E04-828A-3931430C7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8670-CCBC-43FE-9DDA-955AE86F3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1791-6282-4854-BA80-6A946333771C}"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67D8-D437-4557-A263-D26D6018E2E0}"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6600" y="66600"/>
            <a:ext cx="9016920" cy="6699240"/>
            <a:chOff x="66600" y="66600"/>
            <a:chExt cx="9016920" cy="6699240"/>
          </a:xfrm>
        </p:grpSpPr>
        <p:pic>
          <p:nvPicPr>
            <p:cNvPr id="91" name="10 Rectángulo redondeado"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62F4-552A-482B-8071-32D60D1A84E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F111-FA15-4B7F-918E-3B0AA7EC76F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6278-905A-40B2-B392-2840EBD75F11}"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QUIÉN CUENTA LAS HISTORIAS DE LOS CUENTOS?</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TIPOS DE NARRADOR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OMNISCIENTE</a:t>
            </a:r>
            <a:endParaRPr b="0" lang="en-US" sz="4000" spc="-1" strike="noStrike">
              <a:solidFill>
                <a:srgbClr val="696464"/>
              </a:solidFill>
              <a:latin typeface="Franklin Gothic Book"/>
            </a:endParaRPr>
          </a:p>
        </p:txBody>
      </p:sp>
      <p:sp>
        <p:nvSpPr>
          <p:cNvPr id="25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Co</a:t>
            </a:r>
            <a:r>
              <a:rPr b="0" lang="es-ES" sz="2600" spc="-1" strike="noStrike">
                <a:solidFill>
                  <a:srgbClr val="000000"/>
                </a:solidFill>
                <a:latin typeface="Perpetua"/>
              </a:rPr>
              <a:t>noce toda la historia y nos cuenta lo que ocurre en el exterior de los personajes, es decir, cómo se mueven, lo que dicen, etcéter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Habla en TERCERA PERSON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Puede contarnos lo que ocurre en el interior de los personajes, sus pensamientos, sus deseo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Incluso, a veces conoce el futuro, es decir, sabe de antemano el final del relato y lo que los personajes harán.</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EJEMPLOS</a:t>
            </a:r>
            <a:endParaRPr b="0" lang="en-US" sz="4000" spc="-1" strike="noStrike">
              <a:solidFill>
                <a:srgbClr val="696464"/>
              </a:solidFill>
              <a:latin typeface="Franklin Gothic Book"/>
            </a:endParaRPr>
          </a:p>
        </p:txBody>
      </p:sp>
      <p:sp>
        <p:nvSpPr>
          <p:cNvPr id="254" name=""/>
          <p:cNvSpPr txBox="1"/>
          <p:nvPr/>
        </p:nvSpPr>
        <p:spPr>
          <a:xfrm>
            <a:off x="914400" y="1447920"/>
            <a:ext cx="7772400" cy="4572000"/>
          </a:xfrm>
          <a:prstGeom prst="rect">
            <a:avLst/>
          </a:prstGeom>
          <a:noFill/>
          <a:ln w="0">
            <a:noFill/>
          </a:ln>
        </p:spPr>
        <p:txBody>
          <a:bodyPr anchor="t">
            <a:normAutofit fontScale="89000"/>
          </a:bodyPr>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6600"/>
                </a:solidFill>
                <a:latin typeface="Perpetua"/>
              </a:rPr>
              <a:t>“</a:t>
            </a:r>
            <a:r>
              <a:rPr b="0" lang="es-ES" sz="2600" spc="-1" strike="noStrike">
                <a:solidFill>
                  <a:srgbClr val="ff6600"/>
                </a:solidFill>
                <a:latin typeface="Perpetua"/>
              </a:rPr>
              <a:t>El hombrecito vestido de gris hacía cada día las mismas cosas. Se levantaba al son del despertador. Al son de la radio, hacía un poco de gimnasia. Tomaba una ducha que siempre estaba bastante fría...".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2640" indent="-2426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En el fragmento hay : </a:t>
            </a:r>
            <a:endParaRPr b="0" lang="en-US" sz="26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Un narrador en </a:t>
            </a:r>
            <a:r>
              <a:rPr b="1" lang="es-ES" sz="2600" spc="-1" strike="noStrike">
                <a:solidFill>
                  <a:srgbClr val="000000"/>
                </a:solidFill>
                <a:latin typeface="Perpetua"/>
              </a:rPr>
              <a:t>tercera persona</a:t>
            </a:r>
            <a:r>
              <a:rPr b="0" lang="es-ES" sz="2600" spc="-1" strike="noStrike">
                <a:solidFill>
                  <a:srgbClr val="000000"/>
                </a:solidFill>
                <a:latin typeface="Perpetua"/>
              </a:rPr>
              <a:t>, que está narrando desde afuera lo que ve, una especie de "voz", y que además, lo sabe todo, ya que conoce hasta lo que hace el personajes en la mañana cuando se levanta y sabe cómo encuentra la duch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000" spc="-1" strike="noStrike">
              <a:solidFill>
                <a:srgbClr val="696464"/>
              </a:solidFill>
              <a:latin typeface="Franklin Gothic Book"/>
            </a:endParaRPr>
          </a:p>
        </p:txBody>
      </p:sp>
      <p:sp>
        <p:nvSpPr>
          <p:cNvPr id="256"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Arial"/>
              </a:rPr>
              <a:t>El cuello de Leo era raspado por la tela áspera de su uniforme. Se concentró en los botones y trató de no mirar a la cara al director de la banda, quien, sin embargo, estaba más divertido que enojado. </a:t>
            </a: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Arial"/>
              </a:rPr>
              <a:t> </a:t>
            </a:r>
            <a:r>
              <a:rPr b="0" i="1" lang="es-ES" sz="2200" spc="-1" strike="noStrike">
                <a:solidFill>
                  <a:srgbClr val="000000"/>
                </a:solidFill>
                <a:latin typeface="Arial"/>
                <a:ea typeface="Arial"/>
              </a:rPr>
              <a:t>Eran las diez de la noche del mismo día, y los residentes del condominio en la montaña iban regresando a su rutina y su sobriedad. Jane, en cambio, sentada en la cocina con un vaso de escocés sobre la mesa limpia ante ella, iba cayendo más y más en un sentimiento que sólo identificaba como algo poco familiar. No podía describirlo: era a la vez temible y agradable. Era como dejarse llevar y traer de algún lugar. Trató de recordar, ¿cuándo había comenzado exactamente?</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95280" y="3200040"/>
            <a:ext cx="6400800" cy="280044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96464"/>
                </a:solidFill>
                <a:latin typeface="Perpetua"/>
              </a:rPr>
              <a:t>Ya conoce usted la historia del hombre que creía tener encerrada en una botella a la princesa de la China. Era una locura. Le curaron de ella. Pero desde el momento en que dejó de estar loco se volvió tonto</a:t>
            </a:r>
            <a:endParaRPr b="0" lang="en-US" sz="3200" spc="-1" strike="noStrike">
              <a:solidFill>
                <a:srgbClr val="000000"/>
              </a:solidFill>
              <a:latin typeface="Perpetua"/>
            </a:endParaRPr>
          </a:p>
        </p:txBody>
      </p:sp>
      <p:sp>
        <p:nvSpPr>
          <p:cNvPr id="25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Qué narrador tiene el cuento?</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AL volver del colegio, tenían los niños la costumbre de ir a jugar al jardín del gigante. </a:t>
            </a:r>
            <a:endParaRPr b="0" lang="en-US" sz="26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696464"/>
                </a:solidFill>
                <a:latin typeface="Perpetua"/>
              </a:rPr>
              <a:t>Era un jardín grande y solitario con un suave y verde pasto…..</a:t>
            </a:r>
            <a:endParaRPr b="0" lang="en-US" sz="2600" spc="-1" strike="noStrike">
              <a:solidFill>
                <a:srgbClr val="000000"/>
              </a:solidFill>
              <a:latin typeface="Perpetua"/>
            </a:endParaRPr>
          </a:p>
        </p:txBody>
      </p:sp>
      <p:sp>
        <p:nvSpPr>
          <p:cNvPr id="260"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Qué narrador tiene el cuento?</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28760" y="3200400"/>
            <a:ext cx="8215200" cy="2943360"/>
          </a:xfrm>
          <a:prstGeom prst="rect">
            <a:avLst/>
          </a:prstGeom>
          <a:noFill/>
          <a:ln w="0">
            <a:noFill/>
          </a:ln>
        </p:spPr>
        <p:txBody>
          <a:bodyPr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PROTAGONISTA: _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en segunda Persona 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OMNISCIENTE  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Cuento con Narrador Testigo:   ______________________</a:t>
            </a: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6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Busquemos EJEMPLO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295280" y="3200400"/>
            <a:ext cx="6400800" cy="3014640"/>
          </a:xfrm>
          <a:prstGeom prst="rect">
            <a:avLst/>
          </a:prstGeom>
          <a:noFill/>
          <a:ln w="0">
            <a:noFill/>
          </a:ln>
        </p:spPr>
        <p:txBody>
          <a:bodyPr anchor="t">
            <a:no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PROTAGONISTA:  El gato Negro, el cholo que se vengó</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OMNISCIENTE:  Mil Grullas, Jalea Real, un safari en la prehistoria</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TESTIGO: Sinfonía concluida, Los dos compadres</a:t>
            </a: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96464"/>
                </a:solidFill>
                <a:latin typeface="Perpetua"/>
              </a:rPr>
              <a:t>INTERLOCUTOR:  El divorcio</a:t>
            </a:r>
            <a:endParaRPr b="0" lang="en-US" sz="2200" spc="-1" strike="noStrike">
              <a:solidFill>
                <a:srgbClr val="000000"/>
              </a:solidFill>
              <a:latin typeface="Perpetua"/>
            </a:endParaRPr>
          </a:p>
        </p:txBody>
      </p:sp>
      <p:sp>
        <p:nvSpPr>
          <p:cNvPr id="264"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Franklin Gothic Book"/>
              </a:rPr>
              <a:t>RESPUESTA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Qué es un NARRADOR? </a:t>
            </a:r>
            <a:endParaRPr b="0" lang="en-US" sz="4000" spc="-1" strike="noStrike">
              <a:solidFill>
                <a:srgbClr val="696464"/>
              </a:solidFill>
              <a:latin typeface="Franklin Gothic Book"/>
            </a:endParaRPr>
          </a:p>
        </p:txBody>
      </p:sp>
      <p:sp>
        <p:nvSpPr>
          <p:cNvPr id="231" name="PlaceHolder 2"/>
          <p:cNvSpPr>
            <a:spLocks noGrp="1"/>
          </p:cNvSpPr>
          <p:nvPr>
            <p:ph/>
          </p:nvPr>
        </p:nvSpPr>
        <p:spPr>
          <a:xfrm>
            <a:off x="722160" y="2548080"/>
            <a:ext cx="7772400" cy="2738160"/>
          </a:xfrm>
          <a:prstGeom prst="rect">
            <a:avLst/>
          </a:prstGeom>
          <a:noFill/>
          <a:ln w="0">
            <a:noFill/>
          </a:ln>
        </p:spPr>
        <p:txBody>
          <a:bodyPr anchor="t">
            <a:normAutofit fontScale="93000"/>
          </a:bodyPr>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Perpetua"/>
              </a:rPr>
              <a:t>El </a:t>
            </a:r>
            <a:r>
              <a:rPr b="1" lang="en-US" sz="2800" spc="-1" strike="noStrike">
                <a:solidFill>
                  <a:srgbClr val="0d0d0d"/>
                </a:solidFill>
                <a:latin typeface="Perpetua"/>
              </a:rPr>
              <a:t>narrador</a:t>
            </a:r>
            <a:r>
              <a:rPr b="0" lang="en-US" sz="2800" spc="-1" strike="noStrike">
                <a:solidFill>
                  <a:srgbClr val="0d0d0d"/>
                </a:solidFill>
                <a:latin typeface="Perpetua"/>
              </a:rPr>
              <a:t> es el encargado de contar o narrar los acontecimientos en una obra literaria, en este caso: EL CUENTO</a:t>
            </a:r>
            <a:endParaRPr b="0" lang="en-US" sz="2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Perpetua"/>
              </a:rPr>
              <a:t> </a:t>
            </a:r>
            <a:r>
              <a:rPr b="0" lang="en-US" sz="2800" spc="-1" strike="noStrike">
                <a:solidFill>
                  <a:srgbClr val="0d0d0d"/>
                </a:solidFill>
                <a:latin typeface="Perpetua"/>
              </a:rPr>
              <a:t>El narrador es una entidad dentro de la historia, diferente del AUTOR (persona física) que la crea.</a:t>
            </a:r>
            <a:endParaRPr b="0" lang="en-US" sz="28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PROTAGONISTA</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La historia es contada en PRIMERA PERSONA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El narrador ES EL PERSONAJ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n este caso se trata de un </a:t>
            </a:r>
            <a:r>
              <a:rPr b="1" lang="es-ES" sz="2600" spc="-1" strike="noStrike">
                <a:solidFill>
                  <a:srgbClr val="000000"/>
                </a:solidFill>
                <a:latin typeface="Perpetua"/>
              </a:rPr>
              <a:t>personaje que asume el rol de narrador</a:t>
            </a:r>
            <a:r>
              <a:rPr b="0" lang="es-E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onoce la historia que cuenta porque participa en ella, y vive las mismas cosas que los demás personajes.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4" name="4 Imagen" descr="espejo.gif"/>
          <p:cNvPicPr/>
          <p:nvPr/>
        </p:nvPicPr>
        <p:blipFill>
          <a:blip r:embed="rId1"/>
          <a:stretch/>
        </p:blipFill>
        <p:spPr>
          <a:xfrm>
            <a:off x="6858000" y="500040"/>
            <a:ext cx="1730520" cy="20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1 Rectángulo"/>
          <p:cNvSpPr/>
          <p:nvPr/>
        </p:nvSpPr>
        <p:spPr>
          <a:xfrm>
            <a:off x="500040" y="857160"/>
            <a:ext cx="75009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Hace unos años, -no importa cuántos exactamente-, teniendo poco o ningún dinero en el bolsillo y nada en particular que </a:t>
            </a:r>
            <a:r>
              <a:rPr b="1" lang="es-ES" sz="3200" spc="-1" strike="noStrike" u="sng">
                <a:solidFill>
                  <a:srgbClr val="000000"/>
                </a:solidFill>
                <a:uFillTx/>
                <a:latin typeface="Arial"/>
                <a:ea typeface="Arial"/>
              </a:rPr>
              <a:t>me interesara </a:t>
            </a:r>
            <a:r>
              <a:rPr b="1" lang="es-ES" sz="3200" spc="-1" strike="noStrike">
                <a:solidFill>
                  <a:srgbClr val="000000"/>
                </a:solidFill>
                <a:latin typeface="Arial"/>
                <a:ea typeface="Arial"/>
              </a:rPr>
              <a:t>en tierra, </a:t>
            </a:r>
            <a:r>
              <a:rPr b="1" lang="es-ES" sz="3200" spc="-1" strike="noStrike" u="sng">
                <a:solidFill>
                  <a:srgbClr val="000000"/>
                </a:solidFill>
                <a:uFillTx/>
                <a:latin typeface="Arial"/>
                <a:ea typeface="Arial"/>
              </a:rPr>
              <a:t>pens</a:t>
            </a:r>
            <a:r>
              <a:rPr b="1" lang="es-ES" sz="3200" spc="-1" strike="noStrike">
                <a:solidFill>
                  <a:srgbClr val="000000"/>
                </a:solidFill>
                <a:latin typeface="Arial"/>
                <a:ea typeface="Arial"/>
              </a:rPr>
              <a:t>é en irme a navegar un poco por ahí, para ver la parte acuática del mundo. Es un modo que tengo de echar fuera la melancol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Narrador: Interlocutor o de monólogo interior</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El narrador habla en </a:t>
            </a:r>
            <a:r>
              <a:rPr b="1" lang="es-ES" sz="2600" spc="-1" strike="noStrike">
                <a:solidFill>
                  <a:srgbClr val="000000"/>
                </a:solidFill>
                <a:latin typeface="Perpetua"/>
              </a:rPr>
              <a:t>SEGUNDA PERSONA</a:t>
            </a:r>
            <a:r>
              <a:rPr b="0" lang="es-ES" sz="2600" spc="-1" strike="noStrike">
                <a:solidFill>
                  <a:srgbClr val="000000"/>
                </a:solidFill>
                <a:latin typeface="Perpetua"/>
              </a:rPr>
              <a:t>, como si platicara con alguien pero es un dialogo con él mismo.</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rea el efecto de estar contándose la historia a sí mismo o a un yo desdoblad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La segunda persona es un modo básico del relato sólo cuando un personaje es llamado tú o usted.</a:t>
            </a:r>
            <a:endParaRPr b="0" lang="en-US" sz="2600" spc="-1" strike="noStrike">
              <a:solidFill>
                <a:srgbClr val="000000"/>
              </a:solidFill>
              <a:latin typeface="Perpetua"/>
            </a:endParaRPr>
          </a:p>
        </p:txBody>
      </p:sp>
      <p:pic>
        <p:nvPicPr>
          <p:cNvPr id="238" name="3 Imagen" descr="spider.jpg"/>
          <p:cNvPicPr/>
          <p:nvPr/>
        </p:nvPicPr>
        <p:blipFill>
          <a:blip r:embed="rId1"/>
          <a:stretch/>
        </p:blipFill>
        <p:spPr>
          <a:xfrm>
            <a:off x="7000920" y="4714920"/>
            <a:ext cx="1392120" cy="137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EJEMPLOS</a:t>
            </a:r>
            <a:endParaRPr b="0" lang="en-US" sz="4000" spc="-1" strike="noStrike">
              <a:solidFill>
                <a:srgbClr val="696464"/>
              </a:solidFill>
              <a:latin typeface="Franklin Gothic Book"/>
            </a:endParaRPr>
          </a:p>
        </p:txBody>
      </p:sp>
      <p:sp>
        <p:nvSpPr>
          <p:cNvPr id="240" name="PlaceHolder 2"/>
          <p:cNvSpPr>
            <a:spLocks noGrp="1"/>
          </p:cNvSpPr>
          <p:nvPr>
            <p:ph/>
          </p:nvPr>
        </p:nvSpPr>
        <p:spPr>
          <a:xfrm>
            <a:off x="722160" y="2548080"/>
            <a:ext cx="7772400" cy="359568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d0d0d"/>
                </a:solidFill>
                <a:latin typeface="Arial"/>
                <a:ea typeface="Arial"/>
              </a:rPr>
              <a:t>Lees ese anuncio: una oferta de esa naturaleza no se hace todos los días. Lees y reeles el aviso. Parece dirigido a ti a nadie más</a:t>
            </a:r>
            <a:endParaRPr b="0" lang="en-US" sz="2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6600"/>
                </a:solidFill>
                <a:latin typeface="Arial"/>
                <a:ea typeface="Arial"/>
              </a:rPr>
              <a:t>Tu pulgar hace la diferencia con los demás seres humanos. Empieza a sentir la presencia alrededor de tu dedo. Te sorprendería que no haya magia allí. </a:t>
            </a:r>
            <a:endParaRPr b="0" lang="en-US" sz="26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1" name="3 Imagen" descr="mono.gif"/>
          <p:cNvPicPr/>
          <p:nvPr/>
        </p:nvPicPr>
        <p:blipFill>
          <a:blip r:embed="rId1"/>
          <a:stretch/>
        </p:blipFill>
        <p:spPr>
          <a:xfrm>
            <a:off x="6858000" y="571680"/>
            <a:ext cx="1274760" cy="15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680"/>
            <a:ext cx="7772400" cy="1582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96464"/>
                </a:solidFill>
                <a:latin typeface="Franklin Gothic Book"/>
              </a:rPr>
              <a:t>Narrador: Testigo </a:t>
            </a:r>
            <a:br>
              <a:rPr sz="4000"/>
            </a:br>
            <a:r>
              <a:rPr b="0" lang="es-MX" sz="4000" spc="-1" strike="noStrike">
                <a:solidFill>
                  <a:srgbClr val="696464"/>
                </a:solidFill>
                <a:latin typeface="Franklin Gothic Book"/>
              </a:rPr>
              <a:t>Narrador Observador</a:t>
            </a:r>
            <a:endParaRPr b="0" lang="en-US" sz="4000" spc="-1" strike="noStrike">
              <a:solidFill>
                <a:srgbClr val="696464"/>
              </a:solidFill>
              <a:latin typeface="Franklin Gothic Book"/>
            </a:endParaRPr>
          </a:p>
        </p:txBody>
      </p:sp>
      <p:sp>
        <p:nvSpPr>
          <p:cNvPr id="243" name=""/>
          <p:cNvSpPr txBox="1"/>
          <p:nvPr/>
        </p:nvSpPr>
        <p:spPr>
          <a:xfrm>
            <a:off x="928800" y="178596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El narrador testigo es un espectador del acontecer, un personaje que asume la función de narra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Perpetua"/>
              </a:rPr>
              <a:t>N</a:t>
            </a:r>
            <a:r>
              <a:rPr b="0" lang="es-ES" sz="2600" spc="-1" strike="noStrike">
                <a:solidFill>
                  <a:srgbClr val="000000"/>
                </a:solidFill>
                <a:latin typeface="Perpetua"/>
              </a:rPr>
              <a:t>o es el protagonista de la historia, sino un personaje secundari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Cuenta la historia en la que participa o interviene desde su punto de vista, como alguien que la ha vivido desde fuera, pero que es parte del mundo del rela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ES" sz="2600" spc="-1" strike="noStrike">
                <a:solidFill>
                  <a:srgbClr val="000000"/>
                </a:solidFill>
                <a:latin typeface="Perpetua"/>
              </a:rPr>
              <a:t>Cuenta lo que ve o escucha.</a:t>
            </a:r>
            <a:endParaRPr b="0" lang="en-US" sz="2600" spc="-1" strike="noStrike">
              <a:solidFill>
                <a:srgbClr val="000000"/>
              </a:solidFill>
              <a:latin typeface="Perpetua"/>
            </a:endParaRPr>
          </a:p>
        </p:txBody>
      </p:sp>
      <p:pic>
        <p:nvPicPr>
          <p:cNvPr id="244" name="3 Imagen" descr="iojo.jpg"/>
          <p:cNvPicPr/>
          <p:nvPr/>
        </p:nvPicPr>
        <p:blipFill>
          <a:blip r:embed="rId1"/>
          <a:stretch/>
        </p:blipFill>
        <p:spPr>
          <a:xfrm>
            <a:off x="6572160" y="357120"/>
            <a:ext cx="10620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 </a:t>
            </a:r>
            <a:r>
              <a:rPr b="0" lang="es-MX" sz="3600" spc="-1" strike="noStrike">
                <a:solidFill>
                  <a:srgbClr val="696464"/>
                </a:solidFill>
                <a:latin typeface="Franklin Gothic Book"/>
              </a:rPr>
              <a:t>Testigo como Personaje Secundario</a:t>
            </a:r>
            <a:endParaRPr b="0" lang="en-US" sz="3600" spc="-1" strike="noStrike">
              <a:solidFill>
                <a:srgbClr val="696464"/>
              </a:solidFill>
              <a:latin typeface="Franklin Gothic Book"/>
            </a:endParaRPr>
          </a:p>
        </p:txBody>
      </p:sp>
      <p:sp>
        <p:nvSpPr>
          <p:cNvPr id="246"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Perpetua"/>
              </a:rPr>
              <a:t> </a:t>
            </a:r>
            <a:r>
              <a:rPr b="0" lang="es-MX" sz="2600" spc="-1" strike="noStrike">
                <a:solidFill>
                  <a:srgbClr val="000000"/>
                </a:solidFill>
                <a:latin typeface="Perpetua"/>
              </a:rPr>
              <a:t>El testigo puede ser personaje secundario y describir así en primera persona para expresar sus propios sentimientos , pensamientos y reflexciones. </a:t>
            </a: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0000"/>
                </a:solidFill>
                <a:latin typeface="Perpetua"/>
              </a:rPr>
              <a:t>Sherlock Holmes: </a:t>
            </a:r>
            <a:endParaRPr b="0" lang="en-US" sz="2600" spc="-1" strike="noStrike">
              <a:solidFill>
                <a:srgbClr val="000000"/>
              </a:solidFill>
              <a:latin typeface="Perpetua"/>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6600"/>
                </a:solidFill>
                <a:latin typeface="Perpetua"/>
              </a:rPr>
              <a:t>“ </a:t>
            </a:r>
            <a:r>
              <a:rPr b="0" lang="es-ES" sz="2600" spc="-1" strike="noStrike">
                <a:solidFill>
                  <a:srgbClr val="ff6600"/>
                </a:solidFill>
                <a:latin typeface="Perpetua"/>
              </a:rPr>
              <a:t>Cierta mañana, dos días después de Pascua, pasé a ver a mi amigo Sherlock Holmes, con el propósito de desearle felicidades. Lo hallé recostado en el sofá, con una bata color púrpura...”.</a:t>
            </a:r>
            <a:endParaRPr b="0" lang="en-US" sz="2600" spc="-1" strike="noStrike">
              <a:solidFill>
                <a:srgbClr val="000000"/>
              </a:solidFill>
              <a:latin typeface="Perpetua"/>
            </a:endParaRPr>
          </a:p>
        </p:txBody>
      </p:sp>
      <p:pic>
        <p:nvPicPr>
          <p:cNvPr id="247" name="3 Imagen" descr="shelock.jpg"/>
          <p:cNvPicPr/>
          <p:nvPr/>
        </p:nvPicPr>
        <p:blipFill>
          <a:blip r:embed="rId1"/>
          <a:stretch/>
        </p:blipFill>
        <p:spPr>
          <a:xfrm>
            <a:off x="7643880" y="4929120"/>
            <a:ext cx="102240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96464"/>
                </a:solidFill>
                <a:latin typeface="Franklin Gothic Book"/>
              </a:rPr>
              <a:t>  </a:t>
            </a:r>
            <a:r>
              <a:rPr b="0" lang="es-MX" sz="3600" spc="-1" strike="noStrike">
                <a:solidFill>
                  <a:srgbClr val="696464"/>
                </a:solidFill>
                <a:latin typeface="Franklin Gothic Book"/>
              </a:rPr>
              <a:t>Ejemplos del TESTIGO – Narrador Observador</a:t>
            </a:r>
            <a:endParaRPr b="0" lang="en-US" sz="3600" spc="-1" strike="noStrike">
              <a:solidFill>
                <a:srgbClr val="696464"/>
              </a:solidFill>
              <a:latin typeface="Franklin Gothic Book"/>
            </a:endParaRPr>
          </a:p>
        </p:txBody>
      </p:sp>
      <p:sp>
        <p:nvSpPr>
          <p:cNvPr id="249" name=""/>
          <p:cNvSpPr txBox="1"/>
          <p:nvPr/>
        </p:nvSpPr>
        <p:spPr>
          <a:xfrm>
            <a:off x="9144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ea typeface="Arial"/>
              </a:rPr>
              <a:t>“</a:t>
            </a:r>
            <a:r>
              <a:rPr b="0" lang="en-US" sz="2200" spc="-1" strike="noStrike">
                <a:solidFill>
                  <a:srgbClr val="ff6600"/>
                </a:solidFill>
                <a:latin typeface="Arial"/>
                <a:ea typeface="Arial"/>
              </a:rPr>
              <a:t>Lord Henry levantó las cejas, mirándole con asombro a través de las finas espirales de humo azul que se entrelazaban fantásticamente al final de su cigarrillo impregnado de opio”</a:t>
            </a:r>
            <a:endParaRPr b="0" lang="en-US" sz="2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250" name=""/>
          <p:cNvSpPr txBox="1"/>
          <p:nvPr/>
        </p:nvSpPr>
        <p:spPr>
          <a:xfrm>
            <a:off x="4933800" y="1447920"/>
            <a:ext cx="374976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ea typeface="Arial"/>
              </a:rPr>
              <a:t>Había también en el mismo cuerpo, y mandando el segundo escuadrón, un joven comandante que se llamaba Fernando Valle. Era justamente lo contrario de Flores, el reverso de simpático y amable carácter que acabo de pintar a largas pinceladas</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5T19:29:18Z</dcterms:created>
  <dc:creator>Luis Alexander Tovar</dc:creator>
  <dc:description/>
  <dc:language>en-US</dc:language>
  <cp:lastModifiedBy>Luis Alexander Tovar</cp:lastModifiedBy>
  <dcterms:modified xsi:type="dcterms:W3CDTF">2016-01-26T18:32:29Z</dcterms:modified>
  <cp:revision>1</cp:revision>
  <dc:subject/>
  <dc:title>TIPOS DE NARRADORES</dc:title>
</cp:coreProperties>
</file>